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FFA9-05BB-4CC3-85EC-1D80ECA7294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0209518-17B9-435D-A8AA-48E3EAE7F52B}" type="slidenum">
              <a:rPr b="0" lang="en-US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Importan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 of the unique shape:  relates to the transportation of oxygen and  provides an increased surface area through which gas can diffu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CE13-A761-4FBA-B08F-8FB63410454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8190FBD-8F81-4C25-AD28-4F9A5D5CD9EF}" type="slidenum">
              <a:rPr b="0" lang="en-US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fld id="{1BFAFCFE-D7E6-4741-A014-12DAED4E3C58}" type="slidenum">
              <a:rPr b="0" i="1" lang="en-US" sz="10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5236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84AD-1334-4FF8-BBD6-67D71276ED7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20173-38E9-4F52-BA4F-0E8C3807AC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9A5CF-6AA3-46B8-9C79-17EE6230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0C00C-3D50-4BA5-988B-B648378D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F587F-73F8-47E0-94A9-A1E26622F2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F40AB7-8C5B-4C69-8921-24963F5F8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A5696F-7D8C-4D6B-A9C7-A4EFF48E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683486-FD09-4478-A4A2-EBE860AD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7FBDC-CF41-499E-8A9D-5267C857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D9F192-DAA8-4D0F-9CF6-92C2FD61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45B704-2ECC-4EDD-B99E-ECB953DA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96892-FB09-4582-8563-E415E9ED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6DDA9-755D-40F4-AFE8-970E28C6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C0A35-478C-4A6B-B797-C8D4ACB0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58F944-C25B-459E-9685-A429802F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8E4B8-63AB-4AFE-8E99-522308DF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FADEF7-CBE4-4443-9086-7BC00E5AE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35511-1EF4-4091-B85E-D3817DEE7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EF7A-4EB5-457A-893F-7DF50DC0AD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74D5-E945-4874-AE2C-C23F230C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7A18-D6DB-4E0B-A109-D99D4C6F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464C4-D806-4C5B-8BB7-7B437B52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03C7-9D15-43D6-9018-F97C6DBED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66B7D-564E-4201-8185-4797706E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80C1-0B5D-47E4-AFA4-2DD7574E6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32D8-DC13-42F4-8CDC-92111E7E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8718-4997-4041-BF60-029F29D3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F7AB-8B4F-4856-8C53-373C96DB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553C-77F6-442D-9D18-06692958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CFFF-9094-42B7-B7ED-12289C45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2CEF-8EA0-4932-AB90-F6F4D5D0B1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948DCC-6BB0-4949-99B3-99B26391BD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736FEA-B443-43AA-8024-CBEA6AA9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91231C-04AC-46DE-BE1B-C921642B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EC86A-9890-4541-92B8-D13618B8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B08E5A-5438-440E-9AF2-379F8F06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56DD80-7644-4032-89D3-4FAE9F49F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428AD3-4112-46D4-8E50-62DBED57F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B7C437-2063-4F2F-BE2F-8D16C65C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E07D9C-1056-4D02-A088-9143D673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F2C9D1-7E0B-4587-AEAC-64E00F06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F69C22-2A93-4287-83D7-7BF23DDC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C266AF-DF2A-42B6-A579-E47D46B7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2424D7-608F-4911-AB88-27E5B30824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091BE-80D5-4937-9409-9745F2E2D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CB9BF-DBC8-4EF5-BA5D-72EE181F3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4C553-988E-48BD-98B7-A63129C86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30D8A-4A3E-4F57-AD10-22DE47AB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31E59-F7E8-438F-8627-972CF341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D0FAB-2C71-46AE-9869-7F585123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4E991-8B94-42B7-B4CD-D11644C9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229E7-3DB1-4F11-88EF-4E4F43D3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490AD-4FC5-4249-B701-AB6FE786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EDA2C-CC73-4109-8D9E-F250B130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81C0D-DE2A-47B2-BA80-383AEE8E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8DCF8-F512-4D48-AEE3-78E7A7A1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E97A9-8686-43A3-8B2B-81267328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D27E3-5C12-4632-AA35-04A605362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E8725-E6C7-4320-801A-60639A041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D09D0-AF2B-4DDF-AB01-86B8CE0E2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4521B-45B2-45D6-8FC4-746E3F74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1645D-100A-4076-B47F-6C51EE33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9A97B-52DA-4A15-AF52-CA445F26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DE3AC-6786-4C78-98B4-7C1584D2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57D21-CF12-4C7E-B66E-1CB697F0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F88C1-14CB-42B8-96FD-90D9AEE3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12515-371F-444D-8B70-71109143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47709-15D4-49DB-8CDD-60DE33DF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F0F65-0747-4CD6-8AB6-FB48C5E4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3F5F1-CE5F-414D-AE79-8EFCFC80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21751-DC48-4FA8-A214-842885621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CE2BA-218E-4FC6-90DF-4DC589C87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8BDF3-552F-4AC8-86BB-F0CC02B0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EF2D-8459-4978-B572-9A377A7D7D1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ACEE-B7E0-4AFF-A618-82B7DECAD36F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915C-AA9A-416E-8FAB-616B44E70BD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ldNum" idx="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5A48-A7EF-4E3D-B74C-702DC772B28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dt" idx="9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7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7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8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84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185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6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8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9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9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53D2-B082-4C70-9C74-2BB96695EC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EE37-015B-4C6F-920E-20AA13C514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2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3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3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35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336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7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3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34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34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4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8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8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9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94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395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9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9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40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40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40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第三章   血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480" y="1266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（二）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黑体"/>
              </a:rPr>
              <a:t> 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黑体"/>
              </a:rPr>
              <a:t>*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血浆渗透压的组成与正常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90600" y="4768560"/>
            <a:ext cx="8532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作用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细胞内外的水平衡和维持细胞形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1242720" y="2181240"/>
            <a:ext cx="645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300mmol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L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770kPa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5790mmHg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0" name="Rectangle 5"/>
          <p:cNvSpPr/>
          <p:nvPr/>
        </p:nvSpPr>
        <p:spPr>
          <a:xfrm>
            <a:off x="914400" y="2714760"/>
            <a:ext cx="77612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  <a:ea typeface="宋体"/>
              </a:rPr>
              <a:t>1) 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  <a:ea typeface="宋体"/>
              </a:rPr>
              <a:t>晶体渗透压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  <a:ea typeface="宋体"/>
              </a:rPr>
              <a:t>(crystal osmotic pressur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298.5mmol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／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L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766.7kPa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1" name="Rectangle 6"/>
          <p:cNvSpPr/>
          <p:nvPr/>
        </p:nvSpPr>
        <p:spPr>
          <a:xfrm>
            <a:off x="755640" y="3903840"/>
            <a:ext cx="81532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血浆中晶体物质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*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NaCl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）形成的渗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2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2" dur="75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" dur="75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2" dur="75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75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2" dur="3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23640" y="1269720"/>
            <a:ext cx="9001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  <a:ea typeface="黑体"/>
              </a:rPr>
              <a:t>2)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  <a:ea typeface="黑体"/>
              </a:rPr>
              <a:t>胶体渗透压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  <a:ea typeface="黑体"/>
              </a:rPr>
              <a:t>(colloid osmotic pressure)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黑体"/>
              </a:rPr>
              <a:t>1.5mmol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黑体"/>
              </a:rPr>
              <a:t>／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黑体"/>
              </a:rPr>
              <a:t>L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黑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黑体"/>
              </a:rPr>
              <a:t>3.3 kP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94920" y="3193560"/>
            <a:ext cx="853452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血浆中胶体物质（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*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白蛋白）形成的渗透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777960" y="429264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Arial"/>
                <a:ea typeface="宋体"/>
              </a:rPr>
              <a:t>作用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6" name="Rectangle 55"/>
          <p:cNvSpPr/>
          <p:nvPr/>
        </p:nvSpPr>
        <p:spPr>
          <a:xfrm>
            <a:off x="1403280" y="529740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维持血管内外的水平衡和血浆容量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7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75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3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1" descr="C:\Users\xiaoqb\Desktop\第三章血液-姚阳\图片\渗透作用.jpg"/>
          <p:cNvPicPr/>
          <p:nvPr/>
        </p:nvPicPr>
        <p:blipFill>
          <a:blip r:embed="rId1"/>
          <a:stretch/>
        </p:blipFill>
        <p:spPr>
          <a:xfrm>
            <a:off x="1193760" y="1590840"/>
            <a:ext cx="6754680" cy="3676320"/>
          </a:xfrm>
          <a:prstGeom prst="rect">
            <a:avLst/>
          </a:prstGeom>
          <a:ln w="0">
            <a:noFill/>
          </a:ln>
        </p:spPr>
      </p:pic>
      <p:sp>
        <p:nvSpPr>
          <p:cNvPr id="539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7286400" cy="81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形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双凹碟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4" descr="FG16_06a"/>
          <p:cNvPicPr/>
          <p:nvPr/>
        </p:nvPicPr>
        <p:blipFill>
          <a:blip r:embed="rId1"/>
          <a:stretch/>
        </p:blipFill>
        <p:spPr>
          <a:xfrm>
            <a:off x="826920" y="2492280"/>
            <a:ext cx="4032360" cy="28782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5" descr="FG16_06b"/>
          <p:cNvPicPr/>
          <p:nvPr/>
        </p:nvPicPr>
        <p:blipFill>
          <a:blip r:embed="rId2"/>
          <a:stretch/>
        </p:blipFill>
        <p:spPr>
          <a:xfrm>
            <a:off x="5003640" y="2492280"/>
            <a:ext cx="3745080" cy="287676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6"/>
          <p:cNvSpPr/>
          <p:nvPr/>
        </p:nvSpPr>
        <p:spPr>
          <a:xfrm>
            <a:off x="468360" y="566100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直径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~8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,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外周厚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,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中心厚约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体积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90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</a:t>
            </a:r>
            <a:r>
              <a:rPr b="0" lang="en-US" sz="22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4" name="Rectangle 9"/>
          <p:cNvSpPr/>
          <p:nvPr/>
        </p:nvSpPr>
        <p:spPr>
          <a:xfrm>
            <a:off x="250920" y="119700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黑体"/>
                <a:ea typeface="黑体"/>
              </a:rPr>
              <a:t>一</a:t>
            </a:r>
            <a:r>
              <a:rPr b="1" lang="en-US" sz="3600" spc="-1" strike="noStrike">
                <a:solidFill>
                  <a:srgbClr val="000058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000058"/>
                </a:solidFill>
                <a:latin typeface="黑体"/>
                <a:ea typeface="黑体"/>
              </a:rPr>
              <a:t>红细胞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red blood cell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，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RBC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3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323640" y="3141360"/>
            <a:ext cx="3889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16000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血红蛋白含量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755640" y="1125360"/>
            <a:ext cx="6624720" cy="70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黑体"/>
                <a:ea typeface="黑体"/>
              </a:rPr>
              <a:t>㈠</a:t>
            </a: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　正常值和生理功能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Rectangle 8"/>
          <p:cNvSpPr/>
          <p:nvPr/>
        </p:nvSpPr>
        <p:spPr>
          <a:xfrm>
            <a:off x="684360" y="501336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9" name="Rectangle 9"/>
          <p:cNvSpPr/>
          <p:nvPr/>
        </p:nvSpPr>
        <p:spPr>
          <a:xfrm>
            <a:off x="2124000" y="5157720"/>
            <a:ext cx="271476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运输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O</a:t>
            </a:r>
            <a:r>
              <a:rPr b="1" lang="en-US" sz="3200" spc="-1" strike="noStrike" baseline="-14000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CO</a:t>
            </a:r>
            <a:r>
              <a:rPr b="1" lang="en-US" sz="3200" spc="-1" strike="noStrike" baseline="-16000">
                <a:solidFill>
                  <a:srgbClr val="000066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缓冲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0" name="Rectangle 29"/>
          <p:cNvSpPr/>
          <p:nvPr/>
        </p:nvSpPr>
        <p:spPr>
          <a:xfrm>
            <a:off x="971640" y="1989000"/>
            <a:ext cx="6678360" cy="108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男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.5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5.5×10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50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万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/mm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女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.8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.6×10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2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万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/mm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Rectangle 31"/>
          <p:cNvSpPr/>
          <p:nvPr/>
        </p:nvSpPr>
        <p:spPr>
          <a:xfrm>
            <a:off x="1258920" y="3860640"/>
            <a:ext cx="3887640" cy="103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男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2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60g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女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1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50g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0" dur="75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50560" y="16999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渗透脆性</a:t>
            </a:r>
            <a:r>
              <a:rPr b="1" lang="en-US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(</a:t>
            </a:r>
            <a:r>
              <a:rPr b="0" lang="en-US" sz="3200" spc="-1" strike="noStrike">
                <a:solidFill>
                  <a:srgbClr val="000058"/>
                </a:solidFill>
                <a:latin typeface="Arial"/>
                <a:ea typeface="华文新魏"/>
              </a:rPr>
              <a:t>osmotic fragility</a:t>
            </a:r>
            <a:r>
              <a:rPr b="1" lang="en-US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94920" y="306828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在低渗盐溶液中易破裂、溶血的特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8"/>
          <p:cNvSpPr/>
          <p:nvPr/>
        </p:nvSpPr>
        <p:spPr>
          <a:xfrm>
            <a:off x="2340000" y="3940200"/>
            <a:ext cx="289080" cy="792000"/>
          </a:xfrm>
          <a:custGeom>
            <a:avLst/>
            <a:gdLst>
              <a:gd name="textAreaLeft" fmla="*/ 184680 w 289080"/>
              <a:gd name="textAreaRight" fmla="*/ 289080 w 2890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6" name="Rectangle 9"/>
          <p:cNvSpPr/>
          <p:nvPr/>
        </p:nvSpPr>
        <p:spPr>
          <a:xfrm>
            <a:off x="611280" y="4797360"/>
            <a:ext cx="7848360" cy="15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(2)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红细胞对低渗盐溶液有一定的抵抗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抵抗力与渗透脆性呈反变关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Rectangle 10"/>
          <p:cNvSpPr/>
          <p:nvPr/>
        </p:nvSpPr>
        <p:spPr>
          <a:xfrm>
            <a:off x="2700360" y="4227480"/>
            <a:ext cx="609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0.35%NaCl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溶液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完全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溶血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8" name="Rectangle 11"/>
          <p:cNvSpPr/>
          <p:nvPr/>
        </p:nvSpPr>
        <p:spPr>
          <a:xfrm>
            <a:off x="2627280" y="3651120"/>
            <a:ext cx="60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0.42%NaCl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溶液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开始溶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9" name="Rectangle 12"/>
          <p:cNvSpPr/>
          <p:nvPr/>
        </p:nvSpPr>
        <p:spPr>
          <a:xfrm>
            <a:off x="1217160" y="4011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正常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0" name="Rectangle 15"/>
          <p:cNvSpPr/>
          <p:nvPr/>
        </p:nvSpPr>
        <p:spPr>
          <a:xfrm>
            <a:off x="642960" y="2565360"/>
            <a:ext cx="30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(1)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红细胞渗透脆性</a:t>
            </a: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1" name="Rectangle 20"/>
          <p:cNvSpPr/>
          <p:nvPr/>
        </p:nvSpPr>
        <p:spPr>
          <a:xfrm>
            <a:off x="250920" y="1268280"/>
            <a:ext cx="7162560" cy="70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黑体"/>
                <a:ea typeface="黑体"/>
              </a:rPr>
              <a:t>㈡</a:t>
            </a: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红细胞的生理特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3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8" dur="75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3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2" dur="75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7" dur="75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2" dur="75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324000" y="2276640"/>
            <a:ext cx="7416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概念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能较稳定的悬浮于血浆不易下沉的特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测定指标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11"/>
          <p:cNvSpPr/>
          <p:nvPr/>
        </p:nvSpPr>
        <p:spPr>
          <a:xfrm>
            <a:off x="571680" y="5500800"/>
            <a:ext cx="48639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34c74"/>
                </a:solidFill>
                <a:latin typeface="宋体"/>
                <a:ea typeface="宋体"/>
              </a:rPr>
              <a:t>正常值：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男：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5 mm/h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女：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0 mm/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5" name="Rectangle 42"/>
          <p:cNvSpPr/>
          <p:nvPr/>
        </p:nvSpPr>
        <p:spPr>
          <a:xfrm>
            <a:off x="324000" y="981000"/>
            <a:ext cx="815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00058"/>
                </a:solidFill>
                <a:latin typeface="华文新魏"/>
                <a:ea typeface="华文新魏"/>
              </a:rPr>
              <a:t>、悬浮稳定性</a:t>
            </a:r>
            <a:r>
              <a:rPr b="1" lang="zh-CN" sz="6000" spc="-1" strike="noStrike">
                <a:solidFill>
                  <a:srgbClr val="000058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(</a:t>
            </a:r>
            <a:r>
              <a:rPr b="0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suspension stability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Rectangle 3"/>
          <p:cNvSpPr/>
          <p:nvPr/>
        </p:nvSpPr>
        <p:spPr>
          <a:xfrm>
            <a:off x="0" y="3286080"/>
            <a:ext cx="76676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红细胞沉降率（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ESR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，血沉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通常将第一小时末红细胞下沉的距离，称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ESR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7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42"/>
          <p:cNvSpPr/>
          <p:nvPr/>
        </p:nvSpPr>
        <p:spPr>
          <a:xfrm>
            <a:off x="4187160" y="3716280"/>
            <a:ext cx="52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球蛋白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纤维蛋白原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胆固醇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Text Box 47"/>
          <p:cNvSpPr/>
          <p:nvPr/>
        </p:nvSpPr>
        <p:spPr>
          <a:xfrm>
            <a:off x="2106720" y="26370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浆成分变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0" name="Text Box 48"/>
          <p:cNvSpPr/>
          <p:nvPr/>
        </p:nvSpPr>
        <p:spPr>
          <a:xfrm>
            <a:off x="539640" y="4653000"/>
            <a:ext cx="16002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血浆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1" name="Line 50"/>
          <p:cNvSpPr/>
          <p:nvPr/>
        </p:nvSpPr>
        <p:spPr>
          <a:xfrm>
            <a:off x="4859280" y="4005360"/>
            <a:ext cx="165600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Text Box 52"/>
          <p:cNvSpPr/>
          <p:nvPr/>
        </p:nvSpPr>
        <p:spPr>
          <a:xfrm>
            <a:off x="3203640" y="5300640"/>
            <a:ext cx="220968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白蛋白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卵磷脂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3" name="Text Box 55"/>
          <p:cNvSpPr/>
          <p:nvPr/>
        </p:nvSpPr>
        <p:spPr>
          <a:xfrm>
            <a:off x="6659640" y="42210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ESR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74" name="Group 62"/>
          <p:cNvGrpSpPr/>
          <p:nvPr/>
        </p:nvGrpSpPr>
        <p:grpSpPr>
          <a:xfrm>
            <a:off x="2195640" y="4076640"/>
            <a:ext cx="838080" cy="1676520"/>
            <a:chOff x="2195640" y="4076640"/>
            <a:chExt cx="838080" cy="1676520"/>
          </a:xfrm>
        </p:grpSpPr>
        <p:sp>
          <p:nvSpPr>
            <p:cNvPr id="575" name="Line 58"/>
            <p:cNvSpPr/>
            <p:nvPr/>
          </p:nvSpPr>
          <p:spPr>
            <a:xfrm>
              <a:off x="2195640" y="4914720"/>
              <a:ext cx="45720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Line 59"/>
            <p:cNvSpPr/>
            <p:nvPr/>
          </p:nvSpPr>
          <p:spPr>
            <a:xfrm>
              <a:off x="2652840" y="4076640"/>
              <a:ext cx="0" cy="167652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7" name="Line 60"/>
            <p:cNvSpPr/>
            <p:nvPr/>
          </p:nvSpPr>
          <p:spPr>
            <a:xfrm>
              <a:off x="2652840" y="5753160"/>
              <a:ext cx="38088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8" name="Line 61"/>
            <p:cNvSpPr/>
            <p:nvPr/>
          </p:nvSpPr>
          <p:spPr>
            <a:xfrm>
              <a:off x="2652840" y="4076640"/>
              <a:ext cx="38088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79" name="Line 63"/>
          <p:cNvSpPr/>
          <p:nvPr/>
        </p:nvSpPr>
        <p:spPr>
          <a:xfrm flipV="1">
            <a:off x="4932360" y="4723920"/>
            <a:ext cx="1582920" cy="360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0" name="Text Box 64"/>
          <p:cNvSpPr/>
          <p:nvPr/>
        </p:nvSpPr>
        <p:spPr>
          <a:xfrm>
            <a:off x="6227640" y="5589720"/>
            <a:ext cx="13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ESR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1" name="Rectangle 68"/>
          <p:cNvSpPr/>
          <p:nvPr/>
        </p:nvSpPr>
        <p:spPr>
          <a:xfrm>
            <a:off x="192240" y="155736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）</a:t>
            </a: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ESR↑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的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2" name="Line 69"/>
          <p:cNvSpPr/>
          <p:nvPr/>
        </p:nvSpPr>
        <p:spPr>
          <a:xfrm>
            <a:off x="5724360" y="4508640"/>
            <a:ext cx="79236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3" name="Line 70"/>
          <p:cNvSpPr/>
          <p:nvPr/>
        </p:nvSpPr>
        <p:spPr>
          <a:xfrm>
            <a:off x="4859280" y="5589720"/>
            <a:ext cx="1152720" cy="144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Line 71"/>
          <p:cNvSpPr/>
          <p:nvPr/>
        </p:nvSpPr>
        <p:spPr>
          <a:xfrm flipV="1">
            <a:off x="4859280" y="5949720"/>
            <a:ext cx="1154160" cy="215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5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324000" y="2421000"/>
            <a:ext cx="7416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概念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发生主动变形后又回复原状的特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原因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红细胞呈双凹碟形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324000" y="1197000"/>
            <a:ext cx="815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00058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可塑变形性</a:t>
            </a:r>
            <a:r>
              <a:rPr b="1" lang="zh-CN" sz="6600" spc="-1" strike="noStrike">
                <a:solidFill>
                  <a:srgbClr val="000058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(</a:t>
            </a:r>
            <a:r>
              <a:rPr b="0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plastic deformation of erythrocyte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8" name="Rectangle 15"/>
          <p:cNvSpPr/>
          <p:nvPr/>
        </p:nvSpPr>
        <p:spPr>
          <a:xfrm>
            <a:off x="395280" y="4648320"/>
            <a:ext cx="5616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临床：遗传性球形细胞增多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9" dur="75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4" dur="75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75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259920" y="1197000"/>
            <a:ext cx="86108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（三）红细胞的生成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红骨髓造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Box 1"/>
          <p:cNvSpPr/>
          <p:nvPr/>
        </p:nvSpPr>
        <p:spPr>
          <a:xfrm>
            <a:off x="635760" y="3357720"/>
            <a:ext cx="9118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造血干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2" name="TextBox 9"/>
          <p:cNvSpPr/>
          <p:nvPr/>
        </p:nvSpPr>
        <p:spPr>
          <a:xfrm>
            <a:off x="1720080" y="3141720"/>
            <a:ext cx="9118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红系定向祖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TextBox 10"/>
          <p:cNvSpPr/>
          <p:nvPr/>
        </p:nvSpPr>
        <p:spPr>
          <a:xfrm>
            <a:off x="3162240" y="3500280"/>
            <a:ext cx="5461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4" name="TextBox 11"/>
          <p:cNvSpPr/>
          <p:nvPr/>
        </p:nvSpPr>
        <p:spPr>
          <a:xfrm>
            <a:off x="3782520" y="3424320"/>
            <a:ext cx="9118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早幼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5" name="TextBox 12"/>
          <p:cNvSpPr/>
          <p:nvPr/>
        </p:nvSpPr>
        <p:spPr>
          <a:xfrm>
            <a:off x="4790520" y="3429000"/>
            <a:ext cx="91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幼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TextBox 13"/>
          <p:cNvSpPr/>
          <p:nvPr/>
        </p:nvSpPr>
        <p:spPr>
          <a:xfrm>
            <a:off x="5798520" y="3429000"/>
            <a:ext cx="91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晚幼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7" name="TextBox 14"/>
          <p:cNvSpPr/>
          <p:nvPr/>
        </p:nvSpPr>
        <p:spPr>
          <a:xfrm>
            <a:off x="6878160" y="3429000"/>
            <a:ext cx="91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网织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8" name="TextBox 15"/>
          <p:cNvSpPr/>
          <p:nvPr/>
        </p:nvSpPr>
        <p:spPr>
          <a:xfrm>
            <a:off x="8325000" y="3716280"/>
            <a:ext cx="5461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599" name="直接箭头连接符 4"/>
          <p:cNvCxnSpPr/>
          <p:nvPr/>
        </p:nvCxnSpPr>
        <p:spPr>
          <a:xfrm>
            <a:off x="1547640" y="407628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0" name="直接箭头连接符 18"/>
          <p:cNvCxnSpPr/>
          <p:nvPr/>
        </p:nvCxnSpPr>
        <p:spPr>
          <a:xfrm>
            <a:off x="2722320" y="40762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1" name="直接箭头连接符 19"/>
          <p:cNvCxnSpPr/>
          <p:nvPr/>
        </p:nvCxnSpPr>
        <p:spPr>
          <a:xfrm>
            <a:off x="3708360" y="408888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2" name="直接箭头连接符 20"/>
          <p:cNvCxnSpPr/>
          <p:nvPr/>
        </p:nvCxnSpPr>
        <p:spPr>
          <a:xfrm>
            <a:off x="4716360" y="408888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3" name="直接箭头连接符 21"/>
          <p:cNvCxnSpPr/>
          <p:nvPr/>
        </p:nvCxnSpPr>
        <p:spPr>
          <a:xfrm>
            <a:off x="5702040" y="40888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4" name="直接箭头连接符 22"/>
          <p:cNvCxnSpPr/>
          <p:nvPr/>
        </p:nvCxnSpPr>
        <p:spPr>
          <a:xfrm>
            <a:off x="6710040" y="40888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5" name="直接箭头连接符 23"/>
          <p:cNvCxnSpPr/>
          <p:nvPr/>
        </p:nvCxnSpPr>
        <p:spPr>
          <a:xfrm>
            <a:off x="7789680" y="40888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6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842920" y="2179440"/>
            <a:ext cx="5041800" cy="67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液的组成和理化性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56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457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0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3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464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7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9" name="Text Box 17"/>
          <p:cNvSpPr/>
          <p:nvPr/>
        </p:nvSpPr>
        <p:spPr>
          <a:xfrm>
            <a:off x="1989720" y="457992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3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" name="Text Box 17"/>
          <p:cNvSpPr/>
          <p:nvPr/>
        </p:nvSpPr>
        <p:spPr>
          <a:xfrm>
            <a:off x="1962720" y="52293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5" name="Group 11"/>
          <p:cNvGrpSpPr/>
          <p:nvPr/>
        </p:nvGrpSpPr>
        <p:grpSpPr>
          <a:xfrm>
            <a:off x="1817640" y="5229360"/>
            <a:ext cx="687240" cy="593640"/>
            <a:chOff x="1817640" y="5229360"/>
            <a:chExt cx="687240" cy="593640"/>
          </a:xfrm>
        </p:grpSpPr>
        <p:sp>
          <p:nvSpPr>
            <p:cNvPr id="476" name="AutoShape 12"/>
            <p:cNvSpPr/>
            <p:nvPr/>
          </p:nvSpPr>
          <p:spPr>
            <a:xfrm>
              <a:off x="1823040" y="52394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7" name="AutoShape 13"/>
            <p:cNvSpPr/>
            <p:nvPr/>
          </p:nvSpPr>
          <p:spPr>
            <a:xfrm>
              <a:off x="1817640" y="52293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8" name="AutoShape 14"/>
            <p:cNvSpPr/>
            <p:nvPr/>
          </p:nvSpPr>
          <p:spPr>
            <a:xfrm>
              <a:off x="1857600" y="52642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9" name="Text Box 17"/>
          <p:cNvSpPr/>
          <p:nvPr/>
        </p:nvSpPr>
        <p:spPr>
          <a:xfrm>
            <a:off x="1970280" y="5300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2843280" y="2997360"/>
            <a:ext cx="50418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2843280" y="3789360"/>
            <a:ext cx="275904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2843280" y="4516560"/>
            <a:ext cx="504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2843280" y="5221440"/>
            <a:ext cx="50418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" name="Line 18"/>
          <p:cNvSpPr/>
          <p:nvPr/>
        </p:nvSpPr>
        <p:spPr>
          <a:xfrm>
            <a:off x="2459160" y="5861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2"/>
          <p:cNvSpPr/>
          <p:nvPr/>
        </p:nvSpPr>
        <p:spPr>
          <a:xfrm>
            <a:off x="630360" y="1484280"/>
            <a:ext cx="8305560" cy="46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．红细胞生成所需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基本原料：蛋白质和铁              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辅助因子：叶酸和维生素</a:t>
            </a:r>
            <a:r>
              <a:rPr b="0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B</a:t>
            </a:r>
            <a:r>
              <a:rPr b="0" lang="en-US" sz="3600" spc="-1" strike="noStrike" baseline="-30000">
                <a:solidFill>
                  <a:srgbClr val="046ca6"/>
                </a:solidFill>
                <a:latin typeface="Arial"/>
                <a:ea typeface="黑体"/>
              </a:rPr>
              <a:t>12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1</a:t>
            </a:r>
            <a:r>
              <a:rPr b="0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铁    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合成血红蛋白的必需原料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              </a:t>
            </a:r>
            <a:r>
              <a:rPr b="0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95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％来自体内铁的再利用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缺铁，使合成血红蛋白不足，引起小细胞低色素性贫血，即缺铁性贫血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8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2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2" name="Rectangle 5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3" name="Rectangle 6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6" name="Rectangle 9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0" y="13399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96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  <a:ea typeface="黑体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2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维生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en-US" sz="3600" spc="-1" strike="noStrike" baseline="-30000">
                <a:solidFill>
                  <a:srgbClr val="ff3300"/>
                </a:solidFill>
                <a:latin typeface="Times New Roman"/>
                <a:ea typeface="黑体"/>
              </a:rPr>
              <a:t>12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吸收与内因子有关，增加叶酸在体内的利用率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3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叶酸    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维生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36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1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活化后参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DN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合成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叶酸与维生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en-US" sz="3600" spc="-1" strike="noStrike" baseline="-30000">
                <a:solidFill>
                  <a:srgbClr val="ff3300"/>
                </a:solidFill>
                <a:latin typeface="Times New Roman"/>
                <a:ea typeface="黑体"/>
              </a:rPr>
              <a:t>12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缺乏都引起巨幼红细胞贫血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2"/>
          <p:cNvSpPr/>
          <p:nvPr/>
        </p:nvSpPr>
        <p:spPr>
          <a:xfrm>
            <a:off x="324000" y="1484280"/>
            <a:ext cx="830556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）</a:t>
            </a:r>
            <a:r>
              <a:rPr b="0" lang="zh-CN" sz="4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促红细胞生成素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EP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肾皮质管周细胞产生，对组织中氧分压的降低敏感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,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促进生成过程各时期红细胞的增殖与分化。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3.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主要细胞因子对红细胞生成的调节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 Box 10"/>
          <p:cNvSpPr/>
          <p:nvPr/>
        </p:nvSpPr>
        <p:spPr>
          <a:xfrm>
            <a:off x="138240" y="4030560"/>
            <a:ext cx="89643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25520" indent="-132552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）雄激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1325520" indent="-132552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①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促进肾促红细胞生成素的生成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1325520" indent="-132552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②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直接作用于骨髓，促进骨髓红细胞的生成及释放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50920" y="1199880"/>
            <a:ext cx="76960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黑体"/>
                <a:ea typeface="黑体"/>
              </a:rPr>
              <a:t>二、白细胞生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68360" y="1700280"/>
            <a:ext cx="77724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正常值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成年人：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/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：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2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0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/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5" descr="013b1"/>
          <p:cNvPicPr/>
          <p:nvPr/>
        </p:nvPicPr>
        <p:blipFill>
          <a:blip r:embed="rId1"/>
          <a:stretch/>
        </p:blipFill>
        <p:spPr>
          <a:xfrm>
            <a:off x="4202280" y="4987800"/>
            <a:ext cx="1465200" cy="15670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6" descr="013b2"/>
          <p:cNvPicPr/>
          <p:nvPr/>
        </p:nvPicPr>
        <p:blipFill>
          <a:blip r:embed="rId2"/>
          <a:stretch/>
        </p:blipFill>
        <p:spPr>
          <a:xfrm>
            <a:off x="2259000" y="5010120"/>
            <a:ext cx="1515960" cy="14605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7" descr="013b3"/>
          <p:cNvPicPr/>
          <p:nvPr/>
        </p:nvPicPr>
        <p:blipFill>
          <a:blip r:embed="rId3"/>
          <a:stretch/>
        </p:blipFill>
        <p:spPr>
          <a:xfrm>
            <a:off x="504720" y="4959360"/>
            <a:ext cx="1341720" cy="14922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8" descr="013b4"/>
          <p:cNvPicPr/>
          <p:nvPr/>
        </p:nvPicPr>
        <p:blipFill>
          <a:blip r:embed="rId4"/>
          <a:stretch/>
        </p:blipFill>
        <p:spPr>
          <a:xfrm>
            <a:off x="5916600" y="4826160"/>
            <a:ext cx="1279440" cy="16840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9" descr="013b5"/>
          <p:cNvPicPr/>
          <p:nvPr/>
        </p:nvPicPr>
        <p:blipFill>
          <a:blip r:embed="rId5"/>
          <a:stretch/>
        </p:blipFill>
        <p:spPr>
          <a:xfrm>
            <a:off x="7394400" y="4856040"/>
            <a:ext cx="1559160" cy="1562400"/>
          </a:xfrm>
          <a:prstGeom prst="rect">
            <a:avLst/>
          </a:prstGeom>
          <a:ln w="0">
            <a:noFill/>
          </a:ln>
        </p:spPr>
      </p:pic>
      <p:sp>
        <p:nvSpPr>
          <p:cNvPr id="630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Line 2"/>
          <p:cNvSpPr/>
          <p:nvPr/>
        </p:nvSpPr>
        <p:spPr>
          <a:xfrm>
            <a:off x="990720" y="236232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2" name="Line 3"/>
          <p:cNvSpPr/>
          <p:nvPr/>
        </p:nvSpPr>
        <p:spPr>
          <a:xfrm>
            <a:off x="990720" y="6477120"/>
            <a:ext cx="7772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3" name="Text Box 4"/>
          <p:cNvSpPr/>
          <p:nvPr/>
        </p:nvSpPr>
        <p:spPr>
          <a:xfrm>
            <a:off x="1116000" y="17002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名称               百分比          主要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4" name="Text Box 5"/>
          <p:cNvSpPr/>
          <p:nvPr/>
        </p:nvSpPr>
        <p:spPr>
          <a:xfrm>
            <a:off x="1219320" y="274320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5" name="Text Box 6"/>
          <p:cNvSpPr/>
          <p:nvPr/>
        </p:nvSpPr>
        <p:spPr>
          <a:xfrm>
            <a:off x="914400" y="2438280"/>
            <a:ext cx="76201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性粒细胞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% ~70%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吞噬与消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嗜酸性粒细胞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% ~4%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参与过敏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嗜碱性粒细胞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5% ~1%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参与变态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淋巴细胞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0%~40%    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细胞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体液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单核细胞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% ~8%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吞噬、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6" name="Text Box 7"/>
          <p:cNvSpPr/>
          <p:nvPr/>
        </p:nvSpPr>
        <p:spPr>
          <a:xfrm>
            <a:off x="1523880" y="99072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白细胞分类及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7" name="Line 9"/>
          <p:cNvSpPr/>
          <p:nvPr/>
        </p:nvSpPr>
        <p:spPr>
          <a:xfrm>
            <a:off x="914400" y="1600200"/>
            <a:ext cx="7696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8" name="Line 10"/>
          <p:cNvSpPr/>
          <p:nvPr/>
        </p:nvSpPr>
        <p:spPr>
          <a:xfrm>
            <a:off x="990720" y="2362320"/>
            <a:ext cx="7772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2"/>
          <p:cNvSpPr/>
          <p:nvPr/>
        </p:nvSpPr>
        <p:spPr>
          <a:xfrm>
            <a:off x="1110600" y="3789360"/>
            <a:ext cx="30970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㈡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血小板的生理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1" name="Rectangle 3"/>
          <p:cNvSpPr/>
          <p:nvPr/>
        </p:nvSpPr>
        <p:spPr>
          <a:xfrm>
            <a:off x="1258920" y="5734080"/>
            <a:ext cx="41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致聚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诱导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剂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539640" y="4437000"/>
            <a:ext cx="8604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黏附</a:t>
            </a:r>
            <a:r>
              <a:rPr b="0" lang="en-US" sz="2800" spc="-1" strike="noStrike">
                <a:solidFill>
                  <a:srgbClr val="000058"/>
                </a:solidFill>
                <a:latin typeface="Arial"/>
                <a:ea typeface="宋体"/>
              </a:rPr>
              <a:t>: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血小板与非血小板表面的黏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3" name="Rectangle 6"/>
          <p:cNvSpPr/>
          <p:nvPr/>
        </p:nvSpPr>
        <p:spPr>
          <a:xfrm>
            <a:off x="611280" y="5157720"/>
            <a:ext cx="8136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聚集</a:t>
            </a:r>
            <a:r>
              <a:rPr b="0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: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血小板彼此黏着的现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785664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Arial"/>
                <a:ea typeface="黑体"/>
              </a:rPr>
              <a:t>三、血小板（</a:t>
            </a:r>
            <a:r>
              <a:rPr b="1" lang="en-US" sz="4000" spc="-1" strike="noStrike">
                <a:solidFill>
                  <a:srgbClr val="000058"/>
                </a:solidFill>
                <a:latin typeface="Arial"/>
                <a:ea typeface="黑体"/>
              </a:rPr>
              <a:t>platelet</a:t>
            </a:r>
            <a:r>
              <a:rPr b="1" lang="zh-CN" sz="4000" spc="-1" strike="noStrike">
                <a:solidFill>
                  <a:srgbClr val="000058"/>
                </a:solidFill>
                <a:latin typeface="Arial"/>
                <a:ea typeface="黑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Rectangle 11"/>
          <p:cNvSpPr/>
          <p:nvPr/>
        </p:nvSpPr>
        <p:spPr>
          <a:xfrm>
            <a:off x="1166760" y="2060640"/>
            <a:ext cx="292392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㈠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血小板的形态和数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6" name="Rectangle 12"/>
          <p:cNvSpPr/>
          <p:nvPr/>
        </p:nvSpPr>
        <p:spPr>
          <a:xfrm>
            <a:off x="527400" y="2708280"/>
            <a:ext cx="12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形态</a:t>
            </a:r>
            <a:r>
              <a:rPr b="1" lang="en-US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7" name="Rectangle 13"/>
          <p:cNvSpPr/>
          <p:nvPr/>
        </p:nvSpPr>
        <p:spPr>
          <a:xfrm>
            <a:off x="2050920" y="2708280"/>
            <a:ext cx="66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体积小，无核，梭形或椭圆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95280" y="3212640"/>
            <a:ext cx="8067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58"/>
                </a:solidFill>
                <a:latin typeface="黑体"/>
                <a:ea typeface="黑体"/>
              </a:rPr>
              <a:t>正常值：（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300</a:t>
            </a:r>
            <a:r>
              <a:rPr b="1" lang="zh-CN" sz="2800" spc="-1" strike="noStrike">
                <a:solidFill>
                  <a:srgbClr val="000058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×10</a:t>
            </a:r>
            <a:r>
              <a:rPr b="1" lang="en-US" sz="2800" spc="-1" strike="noStrike" baseline="38000">
                <a:solidFill>
                  <a:srgbClr val="000058"/>
                </a:solidFill>
                <a:latin typeface="黑体"/>
                <a:ea typeface="黑体"/>
              </a:rPr>
              <a:t>9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/L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75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75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3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2" dur="3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7" dur="75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2" dur="75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7" dur="75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2"/>
          <p:cNvSpPr/>
          <p:nvPr/>
        </p:nvSpPr>
        <p:spPr>
          <a:xfrm>
            <a:off x="533520" y="1687680"/>
            <a:ext cx="861048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①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第一聚集时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特点：迅速、可逆，外源性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低剂量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)ADP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引起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1" name="Rectangle 3"/>
          <p:cNvSpPr/>
          <p:nvPr/>
        </p:nvSpPr>
        <p:spPr>
          <a:xfrm>
            <a:off x="468360" y="2997360"/>
            <a:ext cx="838188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②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第二聚集时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特点：缓慢、不可逆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      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内源性（高剂量）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ADP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引起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464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）</a:t>
            </a: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AD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Rectangle 9"/>
          <p:cNvSpPr/>
          <p:nvPr/>
        </p:nvSpPr>
        <p:spPr>
          <a:xfrm>
            <a:off x="380880" y="4869000"/>
            <a:ext cx="87631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）血栓烷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A</a:t>
            </a:r>
            <a:r>
              <a:rPr b="1" lang="en-US" sz="3200" spc="-1" strike="noStrike" baseline="-30000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(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TXA</a:t>
            </a:r>
            <a:r>
              <a:rPr b="1" lang="en-US" sz="3200" spc="-1" strike="noStrike" baseline="-30000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PGE</a:t>
            </a:r>
            <a:r>
              <a:rPr b="1" lang="en-US" sz="3200" spc="-1" strike="noStrike" baseline="-30000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NE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5-HT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凝血酶，组胺等促进聚集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4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0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3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4"/>
          <p:cNvSpPr/>
          <p:nvPr/>
        </p:nvSpPr>
        <p:spPr>
          <a:xfrm>
            <a:off x="684360" y="162864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3. 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释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4. 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吸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5. 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6" name="Rectangle 8"/>
          <p:cNvSpPr/>
          <p:nvPr/>
        </p:nvSpPr>
        <p:spPr>
          <a:xfrm>
            <a:off x="971640" y="1700280"/>
            <a:ext cx="6278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释放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ADP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ATP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5-HT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儿茶酚胺、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Ca </a:t>
            </a:r>
            <a:r>
              <a:rPr b="1" lang="en-US" sz="3200" spc="-1" strike="noStrike" baseline="30000">
                <a:solidFill>
                  <a:srgbClr val="000066"/>
                </a:solidFill>
                <a:latin typeface="Arial"/>
                <a:ea typeface="宋体"/>
              </a:rPr>
              <a:t>2+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1" lang="zh-CN" sz="3200" spc="-1" strike="noStrike" baseline="30000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K</a:t>
            </a:r>
            <a:r>
              <a:rPr b="1" lang="en-US" sz="3200" spc="-1" strike="noStrike" baseline="30000">
                <a:solidFill>
                  <a:srgbClr val="000066"/>
                </a:solidFill>
                <a:latin typeface="Arial"/>
                <a:ea typeface="宋体"/>
              </a:rPr>
              <a:t>+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等活性物质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7" name="Rectangle 9"/>
          <p:cNvSpPr/>
          <p:nvPr/>
        </p:nvSpPr>
        <p:spPr>
          <a:xfrm>
            <a:off x="1116000" y="3573360"/>
            <a:ext cx="62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吸附凝血因子，促进凝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8" name="Rectangle 10"/>
          <p:cNvSpPr/>
          <p:nvPr/>
        </p:nvSpPr>
        <p:spPr>
          <a:xfrm>
            <a:off x="1116000" y="5373720"/>
            <a:ext cx="62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收缩蛋白收缩，血凝块回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75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75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75"/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1" dur="75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6" dur="75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1" dur="75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4"/>
          <p:cNvSpPr/>
          <p:nvPr/>
        </p:nvSpPr>
        <p:spPr>
          <a:xfrm>
            <a:off x="1247760" y="1268280"/>
            <a:ext cx="2649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㈢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血小板的生理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1" name="Rectangle 5"/>
          <p:cNvSpPr/>
          <p:nvPr/>
        </p:nvSpPr>
        <p:spPr>
          <a:xfrm>
            <a:off x="1667880" y="2421000"/>
            <a:ext cx="63129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58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参与生理性止血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58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维持血管内皮的完整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000058"/>
                </a:solidFill>
                <a:latin typeface="黑体"/>
                <a:ea typeface="黑体"/>
              </a:rPr>
              <a:t>血小板能沉着于血管壁填补内皮细胞脱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黑体"/>
                <a:ea typeface="黑体"/>
              </a:rPr>
              <a:t>留下的空隙，对其进行修复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紫癜：血小板减少引起毛细血管脆性增加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以及血管的微小破损所致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9"/>
          <p:cNvSpPr/>
          <p:nvPr/>
        </p:nvSpPr>
        <p:spPr>
          <a:xfrm>
            <a:off x="539640" y="1093680"/>
            <a:ext cx="7344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0"/>
          </a:bodyPr>
          <a:p>
            <a:pPr marL="137160" indent="-13716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一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.*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血液凝固</a:t>
            </a:r>
            <a:r>
              <a:rPr b="1" lang="en-US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(blood coagulation)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137160" indent="-13716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964440" y="3284640"/>
            <a:ext cx="5778000" cy="76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㈠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凝血因子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(blood coagulation factor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5" name="Rectangle 12"/>
          <p:cNvSpPr/>
          <p:nvPr/>
        </p:nvSpPr>
        <p:spPr>
          <a:xfrm>
            <a:off x="843120" y="407844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*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概念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6" name="Rectangle 13"/>
          <p:cNvSpPr/>
          <p:nvPr/>
        </p:nvSpPr>
        <p:spPr>
          <a:xfrm>
            <a:off x="843120" y="5410080"/>
            <a:ext cx="34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2.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种类及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7" name="Rectangle 15"/>
          <p:cNvSpPr/>
          <p:nvPr/>
        </p:nvSpPr>
        <p:spPr>
          <a:xfrm>
            <a:off x="755640" y="1916280"/>
            <a:ext cx="802944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血液由流动的液态变成不能流动的凝胶状态的过程</a:t>
            </a:r>
            <a:r>
              <a:rPr b="0" lang="zh-CN" sz="3600" spc="-1" strike="noStrike">
                <a:solidFill>
                  <a:srgbClr val="734c74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8" name="Rectangle 17"/>
          <p:cNvSpPr/>
          <p:nvPr/>
        </p:nvSpPr>
        <p:spPr>
          <a:xfrm>
            <a:off x="1555920" y="4879800"/>
            <a:ext cx="608472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血浆与组织中直接参与凝血的物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9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8" dur="75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9" dur="3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4" dur="75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5" dur="75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9640" y="1455840"/>
            <a:ext cx="8136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血液的组成血细胞比容的概念，血液的一般理化特性，识别血浆渗透压的组成及其生理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记各类血细胞的正常值与功能，描述红细胞的特性和生成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描述血小板的生理特性和生理功能，生理性止血和出血时间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血液凝固的基本过程，识别内、外源凝血途径，说出抗凝系统和纤溶系统的组成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型系统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型系统的分型，知道血型检测，交叉配血试验和输血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FEBF-ED1E-46BD-9009-F8F54C01350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 txBox="1"/>
          <p:nvPr/>
        </p:nvSpPr>
        <p:spPr>
          <a:xfrm>
            <a:off x="178920" y="1052640"/>
            <a:ext cx="914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28320" indent="-230040">
              <a:lnSpc>
                <a:spcPct val="2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因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同义名                          合成部位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纤维蛋白原   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酶原                                    肝细胞       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组织因子                                  内皮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Ⅳ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Ca</a:t>
            </a:r>
            <a:r>
              <a:rPr b="1" lang="en-US" sz="21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Ⅴ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前加速素易变因子               内皮细胞和血小板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Ⅶ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前转变素稳定因子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Ⅷ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抗血友病因子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Ⅸ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凝血活酶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Ⅹ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Stuart-Prower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因子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Ⅺ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凝血活酶前质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Ⅻ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接触因子        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XIII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纤维蛋白稳定因子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Line 5"/>
          <p:cNvSpPr/>
          <p:nvPr/>
        </p:nvSpPr>
        <p:spPr>
          <a:xfrm>
            <a:off x="214200" y="5715000"/>
            <a:ext cx="87012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2" name="Line 6"/>
          <p:cNvSpPr/>
          <p:nvPr/>
        </p:nvSpPr>
        <p:spPr>
          <a:xfrm flipV="1">
            <a:off x="324000" y="1988640"/>
            <a:ext cx="8700840" cy="18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3" name="Line 5"/>
          <p:cNvSpPr/>
          <p:nvPr/>
        </p:nvSpPr>
        <p:spPr>
          <a:xfrm>
            <a:off x="250920" y="1484280"/>
            <a:ext cx="870084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4" name="Text Box 6"/>
          <p:cNvSpPr/>
          <p:nvPr/>
        </p:nvSpPr>
        <p:spPr>
          <a:xfrm>
            <a:off x="395280" y="9079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凝血因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5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394920" y="1412640"/>
            <a:ext cx="838188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除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F</a:t>
            </a:r>
            <a:r>
              <a:rPr b="1" lang="en-US" sz="2800" spc="-1" strike="noStrike" baseline="-16000">
                <a:solidFill>
                  <a:srgbClr val="ff0066"/>
                </a:solidFill>
                <a:latin typeface="Times New Roman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Ca</a:t>
            </a:r>
            <a:r>
              <a:rPr b="1" lang="en-US" sz="2800" spc="-1" strike="noStrike" baseline="38000">
                <a:solidFill>
                  <a:srgbClr val="000066"/>
                </a:solidFill>
                <a:latin typeface="Times New Roman"/>
                <a:ea typeface="宋体"/>
              </a:rPr>
              <a:t>2+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）、磷脂外，都是蛋白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除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F</a:t>
            </a:r>
            <a:r>
              <a:rPr b="1" lang="en-US" sz="2800" spc="-1" strike="noStrike" baseline="-16000">
                <a:solidFill>
                  <a:srgbClr val="ff0066"/>
                </a:solidFill>
                <a:latin typeface="Times New Roman"/>
                <a:ea typeface="宋体"/>
              </a:rPr>
              <a:t>III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（组织因子，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TF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） 外，都在血浆中，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因子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Ⅶ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Ⅸ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Ⅹ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在肝合成，需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宋体"/>
                <a:ea typeface="宋体"/>
              </a:rPr>
              <a:t>K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除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钙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外，均以无活性的酶原形式存在，需要其他水解酶的激活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辅助因子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Ⅲ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, V, Ⅷ ,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高分子量激肽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丝氨酸蛋白酶：包括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Ⅱ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Ⅶ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Ⅸ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Ⅹ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 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Ⅺ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Ⅻ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前激肽释放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3"/>
          <p:cNvSpPr/>
          <p:nvPr/>
        </p:nvSpPr>
        <p:spPr>
          <a:xfrm>
            <a:off x="179280" y="982080"/>
            <a:ext cx="15750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特点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8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9280" y="1126800"/>
            <a:ext cx="3759480" cy="641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㈡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凝血过程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Text Box 3"/>
          <p:cNvSpPr/>
          <p:nvPr/>
        </p:nvSpPr>
        <p:spPr>
          <a:xfrm>
            <a:off x="5638680" y="3505320"/>
            <a:ext cx="9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Ⅱ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7391520" y="3505320"/>
            <a:ext cx="876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Ⅱ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a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2" name="Line 5"/>
          <p:cNvSpPr/>
          <p:nvPr/>
        </p:nvSpPr>
        <p:spPr>
          <a:xfrm>
            <a:off x="6172200" y="3886200"/>
            <a:ext cx="130968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3" name="Text Box 6"/>
          <p:cNvSpPr/>
          <p:nvPr/>
        </p:nvSpPr>
        <p:spPr>
          <a:xfrm>
            <a:off x="5257800" y="2362320"/>
            <a:ext cx="6476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4" name="Text Box 7"/>
          <p:cNvSpPr/>
          <p:nvPr/>
        </p:nvSpPr>
        <p:spPr>
          <a:xfrm>
            <a:off x="6477120" y="2362320"/>
            <a:ext cx="10285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Ｘ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a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5" name="Line 8"/>
          <p:cNvSpPr/>
          <p:nvPr/>
        </p:nvSpPr>
        <p:spPr>
          <a:xfrm>
            <a:off x="5715000" y="27432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6" name="Text Box 9"/>
          <p:cNvSpPr/>
          <p:nvPr/>
        </p:nvSpPr>
        <p:spPr>
          <a:xfrm>
            <a:off x="6553080" y="4572000"/>
            <a:ext cx="6098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7" name="Text Box 10"/>
          <p:cNvSpPr/>
          <p:nvPr/>
        </p:nvSpPr>
        <p:spPr>
          <a:xfrm>
            <a:off x="8077320" y="4572000"/>
            <a:ext cx="10666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Ⅰ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a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8" name="Line 11"/>
          <p:cNvSpPr/>
          <p:nvPr/>
        </p:nvSpPr>
        <p:spPr>
          <a:xfrm>
            <a:off x="6781680" y="29718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9" name="Text Box 12"/>
          <p:cNvSpPr/>
          <p:nvPr/>
        </p:nvSpPr>
        <p:spPr>
          <a:xfrm>
            <a:off x="6705720" y="320040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Ⅴ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宋体"/>
                <a:ea typeface="宋体"/>
              </a:rPr>
              <a:t>2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0" name="Rectangle 13"/>
          <p:cNvSpPr/>
          <p:nvPr/>
        </p:nvSpPr>
        <p:spPr>
          <a:xfrm>
            <a:off x="108000" y="177336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6ca6"/>
                </a:solidFill>
                <a:latin typeface="Arial"/>
                <a:ea typeface="宋体"/>
              </a:rPr>
              <a:t>*</a:t>
            </a: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基本过程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1" name="Text Box 14"/>
          <p:cNvSpPr/>
          <p:nvPr/>
        </p:nvSpPr>
        <p:spPr>
          <a:xfrm>
            <a:off x="304920" y="243828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4c74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734c74"/>
                </a:solidFill>
                <a:latin typeface="Times New Roman"/>
                <a:ea typeface="宋体"/>
              </a:rPr>
              <a:t>） 凝血酶原激活物的形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2" name="Text Box 15"/>
          <p:cNvSpPr/>
          <p:nvPr/>
        </p:nvSpPr>
        <p:spPr>
          <a:xfrm>
            <a:off x="304920" y="35812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4c74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734c74"/>
                </a:solidFill>
                <a:latin typeface="宋体"/>
                <a:ea typeface="宋体"/>
              </a:rPr>
              <a:t>）凝血酶的形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3" name="Text Box 16"/>
          <p:cNvSpPr/>
          <p:nvPr/>
        </p:nvSpPr>
        <p:spPr>
          <a:xfrm>
            <a:off x="304920" y="46483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4c74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734c74"/>
                </a:solidFill>
                <a:latin typeface="宋体"/>
                <a:ea typeface="宋体"/>
              </a:rPr>
              <a:t>）纤维蛋白的形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4" name="Line 17"/>
          <p:cNvSpPr/>
          <p:nvPr/>
        </p:nvSpPr>
        <p:spPr>
          <a:xfrm>
            <a:off x="380880" y="3276720"/>
            <a:ext cx="8305920" cy="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5" name="Line 18"/>
          <p:cNvSpPr/>
          <p:nvPr/>
        </p:nvSpPr>
        <p:spPr>
          <a:xfrm>
            <a:off x="380880" y="4343400"/>
            <a:ext cx="8305920" cy="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6" name="Line 19"/>
          <p:cNvSpPr/>
          <p:nvPr/>
        </p:nvSpPr>
        <p:spPr>
          <a:xfrm>
            <a:off x="7696080" y="4114800"/>
            <a:ext cx="0" cy="762120"/>
          </a:xfrm>
          <a:prstGeom prst="line">
            <a:avLst/>
          </a:prstGeom>
          <a:ln w="1908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7" name="Line 20"/>
          <p:cNvSpPr/>
          <p:nvPr/>
        </p:nvSpPr>
        <p:spPr>
          <a:xfrm>
            <a:off x="7086600" y="4952880"/>
            <a:ext cx="1219320" cy="0"/>
          </a:xfrm>
          <a:prstGeom prst="line">
            <a:avLst/>
          </a:prstGeom>
          <a:ln w="1908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8" name="Text Box 21"/>
          <p:cNvSpPr/>
          <p:nvPr/>
        </p:nvSpPr>
        <p:spPr>
          <a:xfrm>
            <a:off x="5562720" y="16002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Ⅲ    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Line 22"/>
          <p:cNvSpPr/>
          <p:nvPr/>
        </p:nvSpPr>
        <p:spPr>
          <a:xfrm>
            <a:off x="5867280" y="2057400"/>
            <a:ext cx="15264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0" name="Line 23"/>
          <p:cNvSpPr/>
          <p:nvPr/>
        </p:nvSpPr>
        <p:spPr>
          <a:xfrm flipH="1">
            <a:off x="6248160" y="2057400"/>
            <a:ext cx="22860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1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0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75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4" dur="75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3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3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3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5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3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内容占位符 2" descr=""/>
          <p:cNvPicPr/>
          <p:nvPr/>
        </p:nvPicPr>
        <p:blipFill>
          <a:blip r:embed="rId1"/>
          <a:stretch/>
        </p:blipFill>
        <p:spPr>
          <a:xfrm>
            <a:off x="1511280" y="1413000"/>
            <a:ext cx="6121440" cy="4876560"/>
          </a:xfrm>
          <a:prstGeom prst="rect">
            <a:avLst/>
          </a:prstGeom>
          <a:ln w="0">
            <a:noFill/>
          </a:ln>
        </p:spPr>
      </p:pic>
      <p:sp>
        <p:nvSpPr>
          <p:cNvPr id="703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4"/>
          <p:cNvSpPr/>
          <p:nvPr/>
        </p:nvSpPr>
        <p:spPr>
          <a:xfrm>
            <a:off x="611280" y="1268280"/>
            <a:ext cx="792144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三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影响血液凝固的因素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5" name="Rectangle 7"/>
          <p:cNvSpPr/>
          <p:nvPr/>
        </p:nvSpPr>
        <p:spPr>
          <a:xfrm>
            <a:off x="826920" y="1773360"/>
            <a:ext cx="6985080" cy="30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温度：在一定范围内，温度升高，凝血加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粗糙面：易于激活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F</a:t>
            </a:r>
            <a:r>
              <a:rPr b="1" lang="en-US" sz="3200" spc="-1" strike="noStrike">
                <a:solidFill>
                  <a:srgbClr val="000058"/>
                </a:solidFill>
                <a:latin typeface="MS Mincho"/>
                <a:ea typeface="MS Mincho"/>
              </a:rPr>
              <a:t>Ⅻ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Ca</a:t>
            </a:r>
            <a:r>
              <a:rPr b="1" lang="en-US" sz="3200" spc="-1" strike="noStrike" baseline="30000">
                <a:solidFill>
                  <a:srgbClr val="000058"/>
                </a:solidFill>
                <a:latin typeface="Times New Roman"/>
                <a:ea typeface="宋体"/>
              </a:rPr>
              <a:t>2+</a:t>
            </a:r>
            <a:r>
              <a:rPr b="0" lang="en-US" sz="3200" spc="-1" strike="noStrike" baseline="30000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凝血因子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6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6" dur="75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4"/>
          <p:cNvSpPr/>
          <p:nvPr/>
        </p:nvSpPr>
        <p:spPr>
          <a:xfrm>
            <a:off x="395280" y="1557360"/>
            <a:ext cx="61722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（四）抗凝血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8" name="Rectangle 5"/>
          <p:cNvSpPr/>
          <p:nvPr/>
        </p:nvSpPr>
        <p:spPr>
          <a:xfrm>
            <a:off x="324000" y="2565360"/>
            <a:ext cx="8316720" cy="27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抗凝血酶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Ⅲ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血液中最重要的抗凝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产生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：肝和血管内皮细胞产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作用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：使 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MS Mincho"/>
                <a:ea typeface="MS Mincho"/>
              </a:rPr>
              <a:t>Ⅸ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Ⅹ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MS Mincho"/>
                <a:ea typeface="MS Mincho"/>
              </a:rPr>
              <a:t>Ⅺ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MS Mincho"/>
                <a:ea typeface="MS Mincho"/>
              </a:rPr>
              <a:t>Ⅻ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失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机制：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丝氨酸蛋白酶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9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75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75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75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75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75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>
            <a:hlinkClick r:id="rId1" action="ppaction://hlinksldjump"/>
          </p:cNvPr>
          <p:cNvSpPr/>
          <p:nvPr/>
        </p:nvSpPr>
        <p:spPr>
          <a:xfrm>
            <a:off x="571680" y="1484280"/>
            <a:ext cx="41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2.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蛋白质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C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1" name="Text Box 3"/>
          <p:cNvSpPr/>
          <p:nvPr/>
        </p:nvSpPr>
        <p:spPr>
          <a:xfrm>
            <a:off x="592200" y="2565360"/>
            <a:ext cx="86104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蛋白质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肝合成需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VitK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①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灭活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Ⅴ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a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、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Ⅷ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a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；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②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抑制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Ⅹ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、凝血酶原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的激活；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2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2"/>
          <p:cNvSpPr/>
          <p:nvPr/>
        </p:nvSpPr>
        <p:spPr>
          <a:xfrm>
            <a:off x="468360" y="3645000"/>
            <a:ext cx="8534520" cy="15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小血管内皮细胞产生，抑制外源性凝血过程及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046ca6"/>
                </a:solidFill>
                <a:latin typeface="MS Mincho"/>
                <a:ea typeface="MS Mincho"/>
              </a:rPr>
              <a:t>Ⅶ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a-TF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对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046ca6"/>
                </a:solidFill>
                <a:latin typeface="MS Mincho"/>
                <a:ea typeface="MS Mincho"/>
              </a:rPr>
              <a:t>Ⅸ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的激活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4" name="Rectangle 3"/>
          <p:cNvSpPr/>
          <p:nvPr/>
        </p:nvSpPr>
        <p:spPr>
          <a:xfrm>
            <a:off x="1320840" y="1773360"/>
            <a:ext cx="502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3.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组织因子途径抑制物（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TFPI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5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2">
            <a:hlinkClick r:id="rId1" action="ppaction://hlinksldjump"/>
          </p:cNvPr>
          <p:cNvSpPr/>
          <p:nvPr/>
        </p:nvSpPr>
        <p:spPr>
          <a:xfrm>
            <a:off x="826920" y="134136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4.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肝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7" name="Text Box 3"/>
          <p:cNvSpPr/>
          <p:nvPr/>
        </p:nvSpPr>
        <p:spPr>
          <a:xfrm>
            <a:off x="692280" y="2349360"/>
            <a:ext cx="808344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肥大细胞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及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嗜碱性粒细胞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产生，肺、心、肝、肌肉含量丰富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①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间接增强抗凝血酶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Ⅲ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的活性；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②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刺激血管内皮细胞释放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TFPI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③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增强蛋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的活性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8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3"/>
          <p:cNvSpPr/>
          <p:nvPr/>
        </p:nvSpPr>
        <p:spPr>
          <a:xfrm>
            <a:off x="611280" y="175752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纤维蛋白溶解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纤维蛋白逐渐溶解的过程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简称纤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0" name="Rectangle 4"/>
          <p:cNvSpPr/>
          <p:nvPr/>
        </p:nvSpPr>
        <p:spPr>
          <a:xfrm>
            <a:off x="-367920" y="3213000"/>
            <a:ext cx="8812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纤溶系统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原、纤溶酶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原激活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抑制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1" name="Rectangle 7"/>
          <p:cNvSpPr/>
          <p:nvPr/>
        </p:nvSpPr>
        <p:spPr>
          <a:xfrm>
            <a:off x="611280" y="981000"/>
            <a:ext cx="51130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二、纤维蛋白溶解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2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0" dur="75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04920" y="1371240"/>
            <a:ext cx="8610480" cy="5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、血液的组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1" name="Picture 5" descr="血液组成"/>
          <p:cNvPicPr/>
          <p:nvPr/>
        </p:nvPicPr>
        <p:blipFill>
          <a:blip r:embed="rId1"/>
          <a:stretch/>
        </p:blipFill>
        <p:spPr>
          <a:xfrm>
            <a:off x="1547640" y="1946160"/>
            <a:ext cx="669636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Picture 5" descr="C:\Users\xiaoqb\Desktop\第三章血液-姚阳\图片\纤溶.jpg"/>
          <p:cNvPicPr/>
          <p:nvPr/>
        </p:nvPicPr>
        <p:blipFill>
          <a:blip r:embed="rId1"/>
          <a:stretch/>
        </p:blipFill>
        <p:spPr>
          <a:xfrm>
            <a:off x="34920" y="1989000"/>
            <a:ext cx="9093240" cy="3384720"/>
          </a:xfrm>
          <a:prstGeom prst="rect">
            <a:avLst/>
          </a:prstGeom>
          <a:ln w="0">
            <a:noFill/>
          </a:ln>
        </p:spPr>
      </p:pic>
      <p:sp>
        <p:nvSpPr>
          <p:cNvPr id="724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2"/>
          <p:cNvSpPr/>
          <p:nvPr/>
        </p:nvSpPr>
        <p:spPr>
          <a:xfrm>
            <a:off x="2780640" y="981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（一）纤溶酶原的激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6" name="Rectangle 4"/>
          <p:cNvSpPr/>
          <p:nvPr/>
        </p:nvSpPr>
        <p:spPr>
          <a:xfrm>
            <a:off x="1704960" y="1747800"/>
            <a:ext cx="30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1.</a:t>
            </a:r>
            <a:r>
              <a:rPr b="0" lang="zh-CN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组织型纤溶酶原激活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1813680" y="2355840"/>
            <a:ext cx="326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2.</a:t>
            </a:r>
            <a:r>
              <a:rPr b="0" lang="zh-CN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尿激酶型纤溶酶原激活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Rectangle 2"/>
          <p:cNvSpPr/>
          <p:nvPr/>
        </p:nvSpPr>
        <p:spPr>
          <a:xfrm>
            <a:off x="2220120" y="294156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（二）纤维蛋白与纤维蛋白原的降解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9" name="Rectangle 10"/>
          <p:cNvSpPr/>
          <p:nvPr/>
        </p:nvSpPr>
        <p:spPr>
          <a:xfrm>
            <a:off x="1819800" y="379584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（三）纤溶抑制物及其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0" name="Rectangle 11"/>
          <p:cNvSpPr/>
          <p:nvPr/>
        </p:nvSpPr>
        <p:spPr>
          <a:xfrm>
            <a:off x="404640" y="4653000"/>
            <a:ext cx="849816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1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原激活物抑制剂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-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2.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α2-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抗纤溶酶：抑制纤溶酶活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1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 txBox="1"/>
          <p:nvPr/>
        </p:nvSpPr>
        <p:spPr>
          <a:xfrm>
            <a:off x="468360" y="1989000"/>
            <a:ext cx="8136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1.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血型（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blood group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）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血细胞膜上特异抗原的类型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2.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凝集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红细胞凝集成簇的现象，其本质是抗原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抗体反应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7" dur="75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2" dur="75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7" dur="75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2" dur="75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3"/>
          <p:cNvSpPr/>
          <p:nvPr/>
        </p:nvSpPr>
        <p:spPr>
          <a:xfrm>
            <a:off x="695520" y="1052640"/>
            <a:ext cx="29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一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宋体"/>
              </a:rPr>
              <a:t>. ABO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血型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5" name="Rectangle 4"/>
          <p:cNvSpPr/>
          <p:nvPr/>
        </p:nvSpPr>
        <p:spPr>
          <a:xfrm>
            <a:off x="755640" y="1844640"/>
            <a:ext cx="745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1. ABO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血型抗原与分型依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依据：红细胞膜上所含凝集原的种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6" name="Text Box 73"/>
          <p:cNvSpPr/>
          <p:nvPr/>
        </p:nvSpPr>
        <p:spPr>
          <a:xfrm>
            <a:off x="755640" y="3645000"/>
            <a:ext cx="788976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根据红细胞膜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是否存在凝集原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与凝集原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将血液分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种血型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B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O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9" dur="75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4" dur="75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9" dur="75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805040" y="764640"/>
            <a:ext cx="7338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.AB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血型系统分型与遗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血型         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红细胞         血清              基因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（凝集原） （凝集素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Line 4"/>
          <p:cNvSpPr/>
          <p:nvPr/>
        </p:nvSpPr>
        <p:spPr>
          <a:xfrm>
            <a:off x="228600" y="1752480"/>
            <a:ext cx="868680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1" name="Line 5"/>
          <p:cNvSpPr/>
          <p:nvPr/>
        </p:nvSpPr>
        <p:spPr>
          <a:xfrm>
            <a:off x="228600" y="3048120"/>
            <a:ext cx="868680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2" name="Line 6"/>
          <p:cNvSpPr/>
          <p:nvPr/>
        </p:nvSpPr>
        <p:spPr>
          <a:xfrm>
            <a:off x="304920" y="6324480"/>
            <a:ext cx="868680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3" name="Rectangle 7"/>
          <p:cNvSpPr/>
          <p:nvPr/>
        </p:nvSpPr>
        <p:spPr>
          <a:xfrm>
            <a:off x="458640" y="312408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A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4" name="Rectangle 8"/>
          <p:cNvSpPr/>
          <p:nvPr/>
        </p:nvSpPr>
        <p:spPr>
          <a:xfrm>
            <a:off x="230040" y="188604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5" name="Rectangle 9"/>
          <p:cNvSpPr/>
          <p:nvPr/>
        </p:nvSpPr>
        <p:spPr>
          <a:xfrm>
            <a:off x="611280" y="38862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B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6" name="Rectangle 10"/>
          <p:cNvSpPr/>
          <p:nvPr/>
        </p:nvSpPr>
        <p:spPr>
          <a:xfrm>
            <a:off x="306000" y="4648320"/>
            <a:ext cx="10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AB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7" name="Rectangle 11"/>
          <p:cNvSpPr/>
          <p:nvPr/>
        </p:nvSpPr>
        <p:spPr>
          <a:xfrm>
            <a:off x="459000" y="5410080"/>
            <a:ext cx="7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O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8" name="Rectangle 12"/>
          <p:cNvSpPr/>
          <p:nvPr/>
        </p:nvSpPr>
        <p:spPr>
          <a:xfrm>
            <a:off x="4608000" y="3124080"/>
            <a:ext cx="7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9" name="Rectangle 13"/>
          <p:cNvSpPr/>
          <p:nvPr/>
        </p:nvSpPr>
        <p:spPr>
          <a:xfrm>
            <a:off x="2744640" y="3124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0" name="Rectangle 14"/>
          <p:cNvSpPr/>
          <p:nvPr/>
        </p:nvSpPr>
        <p:spPr>
          <a:xfrm>
            <a:off x="6692040" y="3124080"/>
            <a:ext cx="181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A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或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1" name="Rectangle 15"/>
          <p:cNvSpPr/>
          <p:nvPr/>
        </p:nvSpPr>
        <p:spPr>
          <a:xfrm>
            <a:off x="2667960" y="38862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2" name="Rectangle 16"/>
          <p:cNvSpPr/>
          <p:nvPr/>
        </p:nvSpPr>
        <p:spPr>
          <a:xfrm>
            <a:off x="4607640" y="3809880"/>
            <a:ext cx="81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3" name="Rectangle 17"/>
          <p:cNvSpPr/>
          <p:nvPr/>
        </p:nvSpPr>
        <p:spPr>
          <a:xfrm>
            <a:off x="6693120" y="3809880"/>
            <a:ext cx="174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B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或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4" name="Rectangle 18"/>
          <p:cNvSpPr/>
          <p:nvPr/>
        </p:nvSpPr>
        <p:spPr>
          <a:xfrm>
            <a:off x="2502000" y="4648320"/>
            <a:ext cx="118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5" name="Rectangle 19"/>
          <p:cNvSpPr/>
          <p:nvPr/>
        </p:nvSpPr>
        <p:spPr>
          <a:xfrm>
            <a:off x="2751480" y="5410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6" name="Rectangle 20"/>
          <p:cNvSpPr/>
          <p:nvPr/>
        </p:nvSpPr>
        <p:spPr>
          <a:xfrm>
            <a:off x="6783120" y="457200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7" name="Rectangle 21"/>
          <p:cNvSpPr/>
          <p:nvPr/>
        </p:nvSpPr>
        <p:spPr>
          <a:xfrm>
            <a:off x="4656600" y="4572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8" name="Rectangle 22"/>
          <p:cNvSpPr/>
          <p:nvPr/>
        </p:nvSpPr>
        <p:spPr>
          <a:xfrm>
            <a:off x="4750920" y="5410080"/>
            <a:ext cx="146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9" name="Rectangle 23"/>
          <p:cNvSpPr/>
          <p:nvPr/>
        </p:nvSpPr>
        <p:spPr>
          <a:xfrm>
            <a:off x="6858720" y="541008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O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0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0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70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2"/>
          <p:cNvSpPr/>
          <p:nvPr/>
        </p:nvSpPr>
        <p:spPr>
          <a:xfrm>
            <a:off x="2868840" y="907920"/>
            <a:ext cx="303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. AB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血型鉴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62" name="Picture 2" descr="C:\Users\xiaoqb\Desktop\第三章血液-姚阳\图片\血型检测.jpg"/>
          <p:cNvPicPr/>
          <p:nvPr/>
        </p:nvPicPr>
        <p:blipFill>
          <a:blip r:embed="rId1"/>
          <a:stretch/>
        </p:blipFill>
        <p:spPr>
          <a:xfrm>
            <a:off x="468360" y="1628640"/>
            <a:ext cx="7380360" cy="4754520"/>
          </a:xfrm>
          <a:prstGeom prst="rect">
            <a:avLst/>
          </a:prstGeom>
          <a:ln w="0">
            <a:noFill/>
          </a:ln>
        </p:spPr>
      </p:pic>
      <p:sp>
        <p:nvSpPr>
          <p:cNvPr id="763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0" y="1413000"/>
            <a:ext cx="4896000" cy="6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输血原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Text Box 3"/>
          <p:cNvSpPr/>
          <p:nvPr/>
        </p:nvSpPr>
        <p:spPr>
          <a:xfrm>
            <a:off x="304920" y="3962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A      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6" name="Text Box 4"/>
          <p:cNvSpPr/>
          <p:nvPr/>
        </p:nvSpPr>
        <p:spPr>
          <a:xfrm>
            <a:off x="3352680" y="39625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B      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7" name="Text Box 5"/>
          <p:cNvSpPr/>
          <p:nvPr/>
        </p:nvSpPr>
        <p:spPr>
          <a:xfrm>
            <a:off x="1752480" y="25146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O       O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8" name="Text Box 6"/>
          <p:cNvSpPr/>
          <p:nvPr/>
        </p:nvSpPr>
        <p:spPr>
          <a:xfrm>
            <a:off x="1676520" y="5410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AB     A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9" name="Line 7"/>
          <p:cNvSpPr/>
          <p:nvPr/>
        </p:nvSpPr>
        <p:spPr>
          <a:xfrm>
            <a:off x="2362320" y="5715000"/>
            <a:ext cx="53316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0" name="Line 8"/>
          <p:cNvSpPr/>
          <p:nvPr/>
        </p:nvSpPr>
        <p:spPr>
          <a:xfrm>
            <a:off x="762120" y="4267080"/>
            <a:ext cx="60948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1" name="Line 9"/>
          <p:cNvSpPr/>
          <p:nvPr/>
        </p:nvSpPr>
        <p:spPr>
          <a:xfrm>
            <a:off x="3809880" y="4267080"/>
            <a:ext cx="53352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2" name="Line 10"/>
          <p:cNvSpPr/>
          <p:nvPr/>
        </p:nvSpPr>
        <p:spPr>
          <a:xfrm>
            <a:off x="2286000" y="2819520"/>
            <a:ext cx="60948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3" name="Line 11"/>
          <p:cNvSpPr/>
          <p:nvPr/>
        </p:nvSpPr>
        <p:spPr>
          <a:xfrm flipH="1">
            <a:off x="990720" y="2971800"/>
            <a:ext cx="9144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4" name="Line 12"/>
          <p:cNvSpPr/>
          <p:nvPr/>
        </p:nvSpPr>
        <p:spPr>
          <a:xfrm>
            <a:off x="3352680" y="2971800"/>
            <a:ext cx="76212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5" name="Line 13"/>
          <p:cNvSpPr/>
          <p:nvPr/>
        </p:nvSpPr>
        <p:spPr>
          <a:xfrm>
            <a:off x="2666880" y="2895480"/>
            <a:ext cx="0" cy="2667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6" name="Line 14"/>
          <p:cNvSpPr/>
          <p:nvPr/>
        </p:nvSpPr>
        <p:spPr>
          <a:xfrm>
            <a:off x="990720" y="4343400"/>
            <a:ext cx="76176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7" name="Line 15"/>
          <p:cNvSpPr/>
          <p:nvPr/>
        </p:nvSpPr>
        <p:spPr>
          <a:xfrm flipH="1">
            <a:off x="3504960" y="4419720"/>
            <a:ext cx="685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8" name="Text Box 16"/>
          <p:cNvSpPr/>
          <p:nvPr/>
        </p:nvSpPr>
        <p:spPr>
          <a:xfrm>
            <a:off x="5105520" y="2819520"/>
            <a:ext cx="4190760" cy="25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同型输血 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异型输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少量、慢且观察反应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 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9" name="Rectangle 17"/>
          <p:cNvSpPr/>
          <p:nvPr/>
        </p:nvSpPr>
        <p:spPr>
          <a:xfrm>
            <a:off x="2669400" y="2133720"/>
            <a:ext cx="51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供血者的红</a:t>
            </a: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C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不被受血者的血清所凝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0" name="Rectangle 18"/>
          <p:cNvSpPr/>
          <p:nvPr/>
        </p:nvSpPr>
        <p:spPr>
          <a:xfrm>
            <a:off x="3143160" y="907920"/>
            <a:ext cx="27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输血与交叉配血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5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1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9" dur="500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5" dur="500"/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0" dur="500"/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交叉配血试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Text Box 13"/>
          <p:cNvSpPr/>
          <p:nvPr/>
        </p:nvSpPr>
        <p:spPr>
          <a:xfrm>
            <a:off x="5334120" y="1523880"/>
            <a:ext cx="3701880" cy="38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0c1f"/>
                </a:solidFill>
                <a:latin typeface="Times New Roman"/>
                <a:ea typeface="宋体"/>
              </a:rPr>
              <a:t>①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两侧都不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配血相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0c1f"/>
                </a:solidFill>
                <a:latin typeface="Times New Roman"/>
                <a:ea typeface="宋体"/>
              </a:rPr>
              <a:t>②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主不凝次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配血基本相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0c1f"/>
                </a:solidFill>
                <a:latin typeface="Times New Roman"/>
                <a:ea typeface="宋体"/>
              </a:rPr>
              <a:t>③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主凝：配血不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84" name="Picture 2" descr="C:\Users\xiaoqb\Desktop\第三章血液-姚阳\图片\交叉配血试验.jpg"/>
          <p:cNvPicPr/>
          <p:nvPr/>
        </p:nvPicPr>
        <p:blipFill>
          <a:blip r:embed="rId1"/>
          <a:stretch/>
        </p:blipFill>
        <p:spPr>
          <a:xfrm>
            <a:off x="527040" y="1917720"/>
            <a:ext cx="4807080" cy="3405240"/>
          </a:xfrm>
          <a:prstGeom prst="rect">
            <a:avLst/>
          </a:prstGeom>
          <a:ln w="0">
            <a:noFill/>
          </a:ln>
        </p:spPr>
      </p:pic>
      <p:sp>
        <p:nvSpPr>
          <p:cNvPr id="78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0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3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3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3" dur="300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8" dur="300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3" dur="300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8" dur="300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3" dur="300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684000" y="1989000"/>
            <a:ext cx="8305560" cy="119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宋体"/>
                <a:ea typeface="宋体"/>
              </a:rPr>
              <a:t>1.Rh</a:t>
            </a:r>
            <a:r>
              <a:rPr b="1" lang="zh-CN" sz="2800" spc="-1" strike="noStrike">
                <a:solidFill>
                  <a:srgbClr val="000058"/>
                </a:solidFill>
                <a:latin typeface="宋体"/>
                <a:ea typeface="宋体"/>
              </a:rPr>
              <a:t>抗原：以</a:t>
            </a:r>
            <a:r>
              <a:rPr b="1" lang="en-US" sz="2800" spc="-1" strike="noStrike">
                <a:solidFill>
                  <a:srgbClr val="000058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58"/>
                </a:solidFill>
                <a:latin typeface="宋体"/>
                <a:ea typeface="宋体"/>
              </a:rPr>
              <a:t>抗原活性最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58"/>
                </a:solidFill>
                <a:latin typeface="宋体"/>
                <a:ea typeface="宋体"/>
              </a:rPr>
              <a:t>分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6"/>
          <p:cNvSpPr/>
          <p:nvPr/>
        </p:nvSpPr>
        <p:spPr>
          <a:xfrm>
            <a:off x="971640" y="3573360"/>
            <a:ext cx="7345440" cy="165780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红</a:t>
            </a: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膜上有无</a:t>
            </a: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抗原</a:t>
            </a:r>
            <a:r>
              <a:rPr b="0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：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① 有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—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阳性                          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                  ② 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无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—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阴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8" name="Rectangle 2"/>
          <p:cNvSpPr/>
          <p:nvPr/>
        </p:nvSpPr>
        <p:spPr>
          <a:xfrm>
            <a:off x="1006200" y="1126800"/>
            <a:ext cx="255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二、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宋体"/>
              </a:rPr>
              <a:t>Rh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血型系统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9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3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300"/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5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华文细黑"/>
              </a:rPr>
              <a:t>3.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细黑"/>
              </a:rPr>
              <a:t>临床意义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华文细黑"/>
              </a:rPr>
              <a:t>—</a:t>
            </a:r>
            <a:r>
              <a:rPr b="0" lang="en-US" sz="4000" spc="-1" strike="noStrike">
                <a:solidFill>
                  <a:srgbClr val="000058"/>
                </a:solidFill>
                <a:latin typeface="Arial"/>
                <a:ea typeface="华文细黑"/>
              </a:rPr>
              <a:t>Rh</a:t>
            </a:r>
            <a:r>
              <a:rPr b="0" lang="zh-CN" sz="4000" spc="-1" strike="noStrike">
                <a:solidFill>
                  <a:srgbClr val="000058"/>
                </a:solidFill>
                <a:latin typeface="Arial"/>
                <a:ea typeface="华文细黑"/>
              </a:rPr>
              <a:t>阴性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143000" y="2209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阴性者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     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两次接受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阳性血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2. 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阴性孕妇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     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阳性胎儿第二胎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0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75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7" dur="30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2" dur="300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7" dur="300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2" dur="300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900000" y="1628640"/>
            <a:ext cx="36561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细胞比容：血细胞在血液中所占的容积百分比称为血细胞比容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ematocri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正常成年男性血细胞比容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女性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7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8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新生儿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2"/>
          <p:cNvPicPr/>
          <p:nvPr/>
        </p:nvPicPr>
        <p:blipFill>
          <a:blip r:embed="rId1"/>
          <a:stretch/>
        </p:blipFill>
        <p:spPr>
          <a:xfrm>
            <a:off x="5219640" y="1628640"/>
            <a:ext cx="2800440" cy="43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66960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二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液的理化特性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1258920" y="3341520"/>
            <a:ext cx="287280" cy="1224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2195640" y="5695920"/>
            <a:ext cx="215640" cy="792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" name="Rectangle 8"/>
          <p:cNvSpPr/>
          <p:nvPr/>
        </p:nvSpPr>
        <p:spPr>
          <a:xfrm>
            <a:off x="324000" y="1719360"/>
            <a:ext cx="204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宋体"/>
                <a:ea typeface="宋体"/>
              </a:rPr>
              <a:t>㈠ 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颜色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Rectangle 9"/>
          <p:cNvSpPr/>
          <p:nvPr/>
        </p:nvSpPr>
        <p:spPr>
          <a:xfrm>
            <a:off x="1619280" y="327024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血液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5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6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与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红细胞数量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1" name="Rectangle 10"/>
          <p:cNvSpPr/>
          <p:nvPr/>
        </p:nvSpPr>
        <p:spPr>
          <a:xfrm>
            <a:off x="1619280" y="377352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血浆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25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3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，与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血浆蛋白含量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2" name="Rectangle 11"/>
          <p:cNvSpPr/>
          <p:nvPr/>
        </p:nvSpPr>
        <p:spPr>
          <a:xfrm>
            <a:off x="1619280" y="427824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RBC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9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92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，与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血红蛋白含量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Rectangle 12"/>
          <p:cNvSpPr/>
          <p:nvPr/>
        </p:nvSpPr>
        <p:spPr>
          <a:xfrm>
            <a:off x="763560" y="49928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㈢黏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Rectangle 13"/>
          <p:cNvSpPr/>
          <p:nvPr/>
        </p:nvSpPr>
        <p:spPr>
          <a:xfrm>
            <a:off x="2484360" y="5479920"/>
            <a:ext cx="4218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全血：４～５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血浆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6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2.4 /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Rectangle 8"/>
          <p:cNvSpPr/>
          <p:nvPr/>
        </p:nvSpPr>
        <p:spPr>
          <a:xfrm>
            <a:off x="363600" y="2568600"/>
            <a:ext cx="204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宋体"/>
                <a:ea typeface="宋体"/>
              </a:rPr>
              <a:t>㈡</a:t>
            </a:r>
            <a:r>
              <a:rPr b="1" lang="en-US" sz="4000" spc="-1" strike="noStrike">
                <a:solidFill>
                  <a:srgbClr val="ff0066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比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3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75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75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75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3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75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75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3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12"/>
          <p:cNvSpPr/>
          <p:nvPr/>
        </p:nvSpPr>
        <p:spPr>
          <a:xfrm>
            <a:off x="1105920" y="22766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㈣血浆渗透压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0" name="Rectangle 12"/>
          <p:cNvSpPr/>
          <p:nvPr/>
        </p:nvSpPr>
        <p:spPr>
          <a:xfrm>
            <a:off x="1105920" y="32194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㈤血浆酸碱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684360" y="1052640"/>
            <a:ext cx="66960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二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液的理化特性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Rectangle 12"/>
          <p:cNvSpPr/>
          <p:nvPr/>
        </p:nvSpPr>
        <p:spPr>
          <a:xfrm>
            <a:off x="1258920" y="443700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宋体"/>
                <a:ea typeface="宋体"/>
              </a:rPr>
              <a:t>7.35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～</a:t>
            </a:r>
            <a:r>
              <a:rPr b="1" lang="en-US" sz="3600" spc="-1" strike="noStrike">
                <a:solidFill>
                  <a:srgbClr val="000066"/>
                </a:solidFill>
                <a:latin typeface="宋体"/>
                <a:ea typeface="宋体"/>
              </a:rPr>
              <a:t>7.45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Rectangle 13"/>
          <p:cNvSpPr/>
          <p:nvPr/>
        </p:nvSpPr>
        <p:spPr>
          <a:xfrm>
            <a:off x="4427640" y="4464000"/>
            <a:ext cx="4211640" cy="100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缓冲对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: 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NaHCO</a:t>
            </a:r>
            <a:r>
              <a:rPr b="1" lang="en-US" sz="2800" spc="-1" strike="noStrike" baseline="-25000">
                <a:solidFill>
                  <a:srgbClr val="ff3399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/H</a:t>
            </a:r>
            <a:r>
              <a:rPr b="1" lang="en-US" sz="2800" spc="-1" strike="noStrike" baseline="-25000">
                <a:solidFill>
                  <a:srgbClr val="ff3399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ff3399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 (20:1</a:t>
            </a:r>
            <a:r>
              <a:rPr b="1" lang="zh-CN" sz="2800" spc="-1" strike="noStrike">
                <a:solidFill>
                  <a:srgbClr val="ff3399"/>
                </a:solidFill>
                <a:latin typeface="宋体"/>
                <a:ea typeface="宋体"/>
              </a:rPr>
              <a:t>），最重要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3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" dur="3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684360" y="1052640"/>
            <a:ext cx="66960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一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浆的成分及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1419840" y="2768760"/>
            <a:ext cx="166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血浆蛋白 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" name="Rectangle 8"/>
          <p:cNvSpPr/>
          <p:nvPr/>
        </p:nvSpPr>
        <p:spPr>
          <a:xfrm>
            <a:off x="484200" y="3645000"/>
            <a:ext cx="374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总量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6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85g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白蛋白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(4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48g/L)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球蛋白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(15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0g/L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纤维蛋白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1458360" y="20606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晶体物质溶液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" name="Rectangle 8"/>
          <p:cNvSpPr/>
          <p:nvPr/>
        </p:nvSpPr>
        <p:spPr>
          <a:xfrm>
            <a:off x="4140360" y="3573360"/>
            <a:ext cx="460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功能：形成血浆胶体渗透压；运输激素、脂质、离子、维生素代谢产物等；参与血液凝固、抗凝和纤溶等生理过程；抵御病原微生物的入侵；营养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84360" y="1052640"/>
            <a:ext cx="439236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二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浆渗透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611280" y="180504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（一）渗透压概念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渗透压：溶液中的溶质颗粒通过半透膜对水的吸引力。  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8"/>
          <p:cNvSpPr/>
          <p:nvPr/>
        </p:nvSpPr>
        <p:spPr>
          <a:xfrm>
            <a:off x="684360" y="3716280"/>
            <a:ext cx="748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渗透：水分透过半透膜，由低浓度一侧向高浓度一侧溶液转移的现象。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宋体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468360" y="4803840"/>
            <a:ext cx="50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*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决定渗透压的因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: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611280" y="537372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与溶质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颗粒数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成正变，与溶质种类和颗粒大小无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3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3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3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3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0" dur="75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veiveiyang</cp:lastModifiedBy>
  <cp:lastPrinted>1899-12-30T00:00:00Z</cp:lastPrinted>
  <dcterms:modified xsi:type="dcterms:W3CDTF">2015-07-25T07:59:17Z</dcterms:modified>
  <cp:revision>6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